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375B-5110-4A51-B0C5-B8275251B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8FCE-C30D-441B-A56E-DC9E99F75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4153-1134-48D8-B509-77338F0D2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45BB-70E5-448C-8FE9-3C23AF397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90C4-4BBB-4AFE-B37A-7DA5AE101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941D-BF1D-424A-8B95-46E79ACD0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EDC2-7B33-4E90-BBE7-EE6C7E849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13DE-01AC-4A20-8D4C-315CB3090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0AAE-76A1-4379-8688-F09832B34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AE49-EBB4-46E4-8CDB-D863FBFA5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2939-626F-4DD0-BB46-9746C9BF1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D321-E403-4C5B-9B0C-49BCF6DE1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88D3-52E8-485A-8F1F-AA1A353EEE0F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CC: Scheduling &amp; PEWs</a:t>
            </a:r>
            <a:br>
              <a:rPr sz="3200"/>
            </a:br>
            <a:r>
              <a:rPr b="0" lang="en-GB" sz="3200" spc="-1" strike="noStrike">
                <a:solidFill>
                  <a:srgbClr val="003e4c"/>
                </a:solidFill>
                <a:latin typeface="BTExtraBold"/>
              </a:rPr>
              <a:t>Steve Blackshaw &amp; Sam Cla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"/>
          <p:cNvSpPr/>
          <p:nvPr/>
        </p:nvSpPr>
        <p:spPr>
          <a:xfrm>
            <a:off x="638280" y="512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141720"/>
            <a:ext cx="8001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e4c"/>
                </a:solidFill>
                <a:latin typeface="BTMedium"/>
              </a:rPr>
              <a:t>The following slides articulate the concepts that BTW is currently considering within its scheduling and PEWs function design for the MCC. Its purpose is to seek feedback/dialogue with Communication Providers on these concepts following the recent consultation (C21-IM-008)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2039-FD5B-4BA4-8270-E7AFFFC40E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8360" y="461880"/>
            <a:ext cx="7775640" cy="2749680"/>
            <a:chOff x="468360" y="461880"/>
            <a:chExt cx="7775640" cy="2749680"/>
          </a:xfrm>
        </p:grpSpPr>
        <p:sp>
          <p:nvSpPr>
            <p:cNvPr id="48" name=""/>
            <p:cNvSpPr/>
            <p:nvPr/>
          </p:nvSpPr>
          <p:spPr>
            <a:xfrm>
              <a:off x="46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0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63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7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909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24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56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9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21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530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84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16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80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1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178680"/>
            <a:ext cx="431640" cy="23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6880" y="61786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n-the-Night Cutove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284640"/>
            <a:ext cx="43344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3298680"/>
            <a:ext cx="62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into MCC control; W/C dates published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5000"/>
            <a:ext cx="433440" cy="21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7720" y="3645000"/>
            <a:ext cx="71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amend Schedule if necessary (amended sites stay in quarter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03560"/>
            <a:ext cx="142920" cy="216000"/>
          </a:xfrm>
          <a:prstGeom prst="rect">
            <a:avLst/>
          </a:prstGeom>
          <a:solidFill>
            <a:srgbClr val="e9ff8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1320" y="4003560"/>
            <a:ext cx="706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issued at -21 days from each DLE catchment area or DSLAM site grooming; TCP fit or Cutove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738680"/>
            <a:ext cx="433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99040"/>
            <a:ext cx="4334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0000" y="5111640"/>
            <a:ext cx="719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Schedule amended if necessary (amended sites stay in week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1160" y="4753080"/>
            <a:ext cx="47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TN (On-The-Night) dates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459400"/>
            <a:ext cx="129708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6560" y="5400720"/>
            <a:ext cx="23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Grooming &amp; TCP Fitt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818320"/>
            <a:ext cx="129528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5761080"/>
            <a:ext cx="72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Fixed (when OTN dates are fixed, only “life &amp; death” / “blue light” / emergency changes allowed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720" y="89064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Managemen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2392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 Issue &amp; Manage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35252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Activities (Groom, TCP, Cutover)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363920"/>
            <a:ext cx="433440" cy="216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3680" y="437832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Management dur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907920"/>
            <a:ext cx="3889080" cy="649440"/>
            <a:chOff x="3059280" y="907920"/>
            <a:chExt cx="3889080" cy="649440"/>
          </a:xfrm>
        </p:grpSpPr>
        <p:sp>
          <p:nvSpPr>
            <p:cNvPr id="110" name=""/>
            <p:cNvSpPr/>
            <p:nvPr/>
          </p:nvSpPr>
          <p:spPr>
            <a:xfrm>
              <a:off x="6516720" y="134136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9640" y="134136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134136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0836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90792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8000" y="90792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90792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112392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672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0544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252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3080" y="90792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2160" y="90792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2520" y="90792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1609-4738-4433-B906-F641DF9BF0E6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68360" y="461880"/>
            <a:ext cx="7775640" cy="5342040"/>
            <a:chOff x="468360" y="461880"/>
            <a:chExt cx="7775640" cy="5342040"/>
          </a:xfrm>
        </p:grpSpPr>
        <p:sp>
          <p:nvSpPr>
            <p:cNvPr id="126" name=""/>
            <p:cNvSpPr/>
            <p:nvPr/>
          </p:nvSpPr>
          <p:spPr>
            <a:xfrm>
              <a:off x="46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63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5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09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56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9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1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4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6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80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1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44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58920" y="5733720"/>
            <a:ext cx="3260520" cy="689400"/>
            <a:chOff x="1258920" y="5733720"/>
            <a:chExt cx="3260520" cy="689400"/>
          </a:xfrm>
        </p:grpSpPr>
        <p:sp>
          <p:nvSpPr>
            <p:cNvPr id="167" name=""/>
            <p:cNvSpPr/>
            <p:nvPr/>
          </p:nvSpPr>
          <p:spPr>
            <a:xfrm>
              <a:off x="1258920" y="5734080"/>
              <a:ext cx="24685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groom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having TCPs fitt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migrated </a:t>
              </a: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*</a:t>
              </a:r>
              <a:r>
                <a:rPr b="0" lang="en-US" sz="1800" spc="-1" strike="noStrike">
                  <a:solidFill>
                    <a:srgbClr val="003e4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087800" y="5734080"/>
              <a:ext cx="0" cy="2872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519440" y="5733720"/>
              <a:ext cx="0" cy="57636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655800" y="6021360"/>
              <a:ext cx="43164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56160" y="6310440"/>
              <a:ext cx="86328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702120" y="63216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* </a:t>
            </a:r>
            <a:r>
              <a:rPr b="0" lang="en-US" sz="900" spc="-1" strike="noStrike">
                <a:solidFill>
                  <a:srgbClr val="003e4c"/>
                </a:solidFill>
                <a:latin typeface="Arial"/>
              </a:rPr>
              <a:t>Based on average 10 conc units per DLE </a:t>
            </a:r>
            <a:endParaRPr b="0" lang="en-US" sz="9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8360" y="547560"/>
            <a:ext cx="3889080" cy="649440"/>
            <a:chOff x="468360" y="547560"/>
            <a:chExt cx="3889080" cy="649440"/>
          </a:xfrm>
        </p:grpSpPr>
        <p:sp>
          <p:nvSpPr>
            <p:cNvPr id="174" name=""/>
            <p:cNvSpPr/>
            <p:nvPr/>
          </p:nvSpPr>
          <p:spPr>
            <a:xfrm>
              <a:off x="3925800" y="9810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28720" y="9810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3440" y="9810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44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360" y="5475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080" y="5475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7440" y="5475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344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28720" y="7635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2580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1452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160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2160" y="5475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51240" y="5475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1600" y="5475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00000" y="1193760"/>
            <a:ext cx="3889080" cy="649440"/>
            <a:chOff x="900000" y="1193760"/>
            <a:chExt cx="3889080" cy="649440"/>
          </a:xfrm>
        </p:grpSpPr>
        <p:sp>
          <p:nvSpPr>
            <p:cNvPr id="190" name=""/>
            <p:cNvSpPr/>
            <p:nvPr/>
          </p:nvSpPr>
          <p:spPr>
            <a:xfrm>
              <a:off x="4357440" y="16272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0360" y="16272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5080" y="16272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908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0000" y="11937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8720" y="11937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49080" y="11937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508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0360" y="14097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44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616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324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3800" y="11937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2880" y="11937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3240" y="11937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332000" y="1841400"/>
            <a:ext cx="3889080" cy="649440"/>
            <a:chOff x="1332000" y="1841400"/>
            <a:chExt cx="3889080" cy="649440"/>
          </a:xfrm>
        </p:grpSpPr>
        <p:sp>
          <p:nvSpPr>
            <p:cNvPr id="206" name=""/>
            <p:cNvSpPr/>
            <p:nvPr/>
          </p:nvSpPr>
          <p:spPr>
            <a:xfrm>
              <a:off x="4789440" y="22748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92360" y="22748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97080" y="22748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18414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20720" y="18414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1080" y="18414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708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92360" y="20574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944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816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524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5800" y="18414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4880" y="18414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5240" y="18414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63640" y="2490840"/>
            <a:ext cx="3889080" cy="648720"/>
            <a:chOff x="1763640" y="2490840"/>
            <a:chExt cx="3889080" cy="648720"/>
          </a:xfrm>
        </p:grpSpPr>
        <p:sp>
          <p:nvSpPr>
            <p:cNvPr id="222" name=""/>
            <p:cNvSpPr/>
            <p:nvPr/>
          </p:nvSpPr>
          <p:spPr>
            <a:xfrm>
              <a:off x="5221080" y="292392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24000" y="292392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8720" y="292392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1272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3640" y="249084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2360" y="249084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2720" y="249084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872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4000" y="270648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108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980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688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7440" y="249084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6520" y="249084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6880" y="249084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95640" y="3138480"/>
            <a:ext cx="3889080" cy="649440"/>
            <a:chOff x="2195640" y="3138480"/>
            <a:chExt cx="3889080" cy="649440"/>
          </a:xfrm>
        </p:grpSpPr>
        <p:sp>
          <p:nvSpPr>
            <p:cNvPr id="238" name=""/>
            <p:cNvSpPr/>
            <p:nvPr/>
          </p:nvSpPr>
          <p:spPr>
            <a:xfrm>
              <a:off x="5653080" y="357192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56000" y="357192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60720" y="357192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472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5640" y="313848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4360" y="313848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4720" y="313848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072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6000" y="335448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308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180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888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9440" y="313848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78520" y="313848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8880" y="313848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627280" y="3787920"/>
            <a:ext cx="3889080" cy="648720"/>
            <a:chOff x="2627280" y="3787920"/>
            <a:chExt cx="3889080" cy="648720"/>
          </a:xfrm>
        </p:grpSpPr>
        <p:sp>
          <p:nvSpPr>
            <p:cNvPr id="254" name=""/>
            <p:cNvSpPr/>
            <p:nvPr/>
          </p:nvSpPr>
          <p:spPr>
            <a:xfrm>
              <a:off x="6084720" y="422100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87640" y="422100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360" y="422100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36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7280" y="378792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6000" y="378792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360" y="378792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9236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87640" y="400356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472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344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052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1080" y="378792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0160" y="378792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70520" y="378792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59280" y="4435560"/>
            <a:ext cx="3889080" cy="648720"/>
            <a:chOff x="3059280" y="4435560"/>
            <a:chExt cx="3889080" cy="648720"/>
          </a:xfrm>
        </p:grpSpPr>
        <p:sp>
          <p:nvSpPr>
            <p:cNvPr id="270" name=""/>
            <p:cNvSpPr/>
            <p:nvPr/>
          </p:nvSpPr>
          <p:spPr>
            <a:xfrm>
              <a:off x="6516720" y="486864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19640" y="486864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4360" y="486864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0836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9280" y="443556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8000" y="443556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8360" y="443556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436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19640" y="465120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672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544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252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53080" y="443556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2160" y="443556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02520" y="443556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490920" y="5083200"/>
            <a:ext cx="3889080" cy="649440"/>
            <a:chOff x="3490920" y="5083200"/>
            <a:chExt cx="3889080" cy="649440"/>
          </a:xfrm>
        </p:grpSpPr>
        <p:sp>
          <p:nvSpPr>
            <p:cNvPr id="286" name=""/>
            <p:cNvSpPr/>
            <p:nvPr/>
          </p:nvSpPr>
          <p:spPr>
            <a:xfrm>
              <a:off x="6948360" y="55166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1280" y="55166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55166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000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90920" y="50832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79640" y="50832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40000" y="50832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5600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1280" y="52992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708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416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84720" y="50832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3800" y="50832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4160" y="50832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E075-C788-461C-AC6D-B5EE7A32D9C4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41640" y="620640"/>
            <a:ext cx="129852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3e4c"/>
            </a:solidFill>
            <a:miter/>
          </a:ln>
          <a:effectLst>
            <a:outerShdw dist="107932" dir="189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PEW Clarify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6160" y="1557360"/>
            <a:ext cx="8133120" cy="1419120"/>
            <a:chOff x="326160" y="1557360"/>
            <a:chExt cx="8133120" cy="1419120"/>
          </a:xfrm>
        </p:grpSpPr>
        <p:sp>
          <p:nvSpPr>
            <p:cNvPr id="303" name=""/>
            <p:cNvSpPr/>
            <p:nvPr/>
          </p:nvSpPr>
          <p:spPr>
            <a:xfrm>
              <a:off x="4157280" y="2112840"/>
              <a:ext cx="129816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52520" y="240012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6160" y="15573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040" y="1990800"/>
              <a:ext cx="119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s 1&amp;2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480" y="212724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6720" y="249408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08360" y="24940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8720" y="22064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44240" y="219564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15640" y="163044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Nov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6520" y="3068640"/>
            <a:ext cx="8787960" cy="1716480"/>
            <a:chOff x="326520" y="3068640"/>
            <a:chExt cx="8787960" cy="1716480"/>
          </a:xfrm>
        </p:grpSpPr>
        <p:sp>
          <p:nvSpPr>
            <p:cNvPr id="314" name=""/>
            <p:cNvSpPr/>
            <p:nvPr/>
          </p:nvSpPr>
          <p:spPr>
            <a:xfrm>
              <a:off x="4157640" y="362412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16640" y="362412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56160" y="391140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56160" y="419904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2880" y="4199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52880" y="3911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6520" y="30686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2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3479760"/>
              <a:ext cx="104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 3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18320" y="3479760"/>
              <a:ext cx="14292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44640" y="319248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2840" y="3638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96880" y="420048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7080" y="398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2400" y="3558960"/>
              <a:ext cx="1252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Access enable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Ps to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ome &amp; look”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92720" y="4775040"/>
              <a:ext cx="3167280" cy="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92720" y="4487760"/>
              <a:ext cx="0" cy="28728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0240" y="45086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66920" y="369576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16360" y="313200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Feb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78360" y="4653000"/>
            <a:ext cx="8728200" cy="1725480"/>
            <a:chOff x="378360" y="4653000"/>
            <a:chExt cx="8728200" cy="1725480"/>
          </a:xfrm>
        </p:grpSpPr>
        <p:sp>
          <p:nvSpPr>
            <p:cNvPr id="334" name=""/>
            <p:cNvSpPr/>
            <p:nvPr/>
          </p:nvSpPr>
          <p:spPr>
            <a:xfrm>
              <a:off x="212400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TEWT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9840" y="520848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6884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9920" y="5567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35920" y="50353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RSS feed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836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836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508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508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8360" y="46530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3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7320" y="51372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Nation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igration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0520" y="5064120"/>
              <a:ext cx="14256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6840" y="477684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35040" y="522288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9080" y="578484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800" y="5675400"/>
              <a:ext cx="99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Grooming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TCP fit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9800" y="470520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Mar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26160" y="260280"/>
            <a:ext cx="8133120" cy="1241280"/>
            <a:chOff x="326160" y="260280"/>
            <a:chExt cx="8133120" cy="1241280"/>
          </a:xfrm>
        </p:grpSpPr>
        <p:sp>
          <p:nvSpPr>
            <p:cNvPr id="352" name=""/>
            <p:cNvSpPr/>
            <p:nvPr/>
          </p:nvSpPr>
          <p:spPr>
            <a:xfrm>
              <a:off x="3152520" y="110304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160" y="2602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0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040" y="744480"/>
              <a:ext cx="153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Wick POTS onl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82480" y="83016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720" y="110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16720" y="31248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Oct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8360" y="11746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9280" y="887400"/>
              <a:ext cx="24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e4c"/>
                  </a:solidFill>
                  <a:latin typeface="Arial"/>
                </a:rPr>
                <a:t>NPW Team informs BT Wholsale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76DB-ACA4-4C04-BED1-EEBBE59AC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Summary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New 21CN Industry Web Portal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igration Schedule releases, changes &amp; latest PEW inform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PSTN PEW Notification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developed to mirror the existing Broadband / DSLAM proces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BB PEW Email Notification Process (including PSTN) 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enhanced to provide RSS feeds via the web portal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“</a:t>
            </a: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Blanket PEWs for Grooming &amp; TCP fit”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eekly or fortnightly time periods listing a number of site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recognises the very low impact &amp; outage times incurred by this work which is analogous to everyday provision &amp; maintenance activity across the UK telecoms networks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PEW process continues for End-Customer “On the Night” migration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i.e. 00:00 to 06:00 on a specified date per DLE or DSLAM site. 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The Migration Plan Change Request &amp; Dispute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ill include an Emergency Change Request (ECR) process for changes within the last few weeks of migr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1F1F-CA6B-43E4-9B81-0C53012FD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Issues for discussion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TMedium"/>
              </a:rPr>
              <a:t>How do we build a database of who/which CP interfaces we need to inform of PSTN PEWs?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7AF9-D0A1-43DA-B315-F3C12F7DB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8-03T09:02:40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44439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CC Experts - Minutes and Slides from 030806</vt:lpwstr>
  </property>
</Properties>
</file>