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89A9-F421-4286-8F94-631486FAE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E20E-7BA7-4214-A617-D5D712FA7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70E6-27F5-4FA8-A6B5-52A911504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389E-FA4F-4CA5-ACBA-A22284361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3766-4CD4-481C-81F1-9F09668A78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FE07-76FB-48FA-9549-123059B35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969-FFB1-4392-85D1-F7075E9E1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52F0-F79B-4F0D-83C2-34DD33EE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50DE-683F-4FCE-9848-2301D4902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FE2D-89C8-4C8E-B3C0-1994D5595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665F-CA2C-4BA2-928B-F43A17AA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0041-C7C6-4136-A7B9-D83A08D23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52A-8E8E-4AE8-8A5E-E06A5C8C13C7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6237360"/>
            <a:ext cx="660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08000" y="6453360"/>
            <a:ext cx="27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e4c"/>
                </a:solidFill>
                <a:latin typeface="Arial"/>
              </a:rPr>
              <a:t>I&amp;M WG: MCC Expert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3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br>
              <a:rPr sz="3200"/>
            </a:br>
            <a:r>
              <a:rPr b="1" lang="en-US" sz="3200" spc="-1" strike="noStrike">
                <a:solidFill>
                  <a:srgbClr val="003e4c"/>
                </a:solidFill>
                <a:latin typeface="BTExtraBold"/>
              </a:rPr>
              <a:t>Liz Walsh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an overview for Communication Providers on the continuing Migration Command &amp; Control consultation following the conclusion of the Requirements Capture Phas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DB5C-D2BB-4624-9FE9-2A5AE5CB11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2448000" cy="31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06064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70828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35772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060640"/>
            <a:ext cx="2160720" cy="25207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Requirements Captur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CONCLUD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492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Ma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8108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an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724280"/>
            <a:ext cx="2232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2 multi-lateral workshops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7/01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4/03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Formal Consultation (04/04/06 – 26/04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in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27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74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97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2 - OPE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ul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98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3 - PLANN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8864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5321160"/>
            <a:ext cx="1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400536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93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e develop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Systems &amp; Measure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7036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Fault Diagnostics &amp; Service Management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0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Fallback Criteria &amp; Go/No Go criteria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4191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e4c"/>
                </a:solidFill>
                <a:latin typeface="Arial"/>
              </a:rPr>
              <a:t>Scheduling &amp; PEWs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724280"/>
            <a:ext cx="223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177840" indent="-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Approach: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multi-lateral workshops for each area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BT Proposal published post workshop for formal consultation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4508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Nov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120E-5599-4FE4-A26A-B03DED981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Timelin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Scheduling &amp; PEWs: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8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2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5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llback Criteria &amp; Go/No Go Criteria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ult Diagnostics &amp; Service Management (during End Customer Migration)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4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38D2-AC6B-4129-BE0A-CC032CD0F3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To be confirmed: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War gaming Workshop – anticipated mid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ystems and Measurement – anticipated mid/late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cus on measuring individual migrations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CCD2-A559-4DCB-92DE-166D2E0C9E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5-15T09:47:37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5383022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UQ4 WALSHE R</vt:lpwstr>
  </property>
  <property fmtid="{D5CDD505-2E9C-101B-9397-08002B2CF9AE}" pid="5" name="_EmailSubject">
    <vt:lpwstr>Consult21: Implementation &amp; Migration WG - Migration Command &amp; Control (Scheduling &amp; PEWs Workshop)</vt:lpwstr>
  </property>
</Properties>
</file>