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move the slid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A60-B9BF-4202-A11B-7C3235C07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E2A-C711-4471-80B4-02316C7EA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B934-FB3E-46D6-B243-6817719FD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F98B-34D3-4C87-A6A9-0F740A016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C43-9230-4185-8D14-35C80A827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9F6-002C-4FCE-B91D-72337D06D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55B9-BE36-4B54-B985-68D2E6365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A683-A48C-41BC-9D35-B10A6C624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8979-E046-4A5C-929C-CA6C4F492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7E90-EF1A-42DD-BF2A-664D65C99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8C3C-4A66-46EF-9FDD-6E2AC52B2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F90E-A414-468D-9D27-82D16F89E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037A-5909-4B41-B8C3-787993E82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5AB2-9EAC-4618-B406-F84D12163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7CC9-381F-478D-8619-5255530FD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F91B-6581-45D6-8038-D6A989347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E763-8831-4E38-B96D-B5D64F4F4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613D-4D75-4C83-80AF-7EE315882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BEB3-10FA-422F-B944-30EA06A6CEE6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174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Go/No GO &amp; Fallback Criteria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Thoughts on principles</a:t>
            </a:r>
            <a:br>
              <a:rPr sz="3200"/>
            </a:br>
            <a:r>
              <a:rPr b="1" lang="en-GB" sz="3200" spc="-1" strike="noStrike">
                <a:solidFill>
                  <a:srgbClr val="003e4c"/>
                </a:solidFill>
                <a:latin typeface="BTExtraBold"/>
              </a:rPr>
              <a:t>Ian Pomford &amp; Alan Turner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some simple principles and thoughts by BT Wholesale for discussion with Communication Providers to facilitate the development by BTW of a proposal to define Go/No Go and Fallback criteria initially for Pathfinder and subsequently (subject to review) for Mass Migration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2685-2D20-49C4-A5AC-4F9F1D22EC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anagement of the Go/No go &amp; fallback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National Network Management Centr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Unique Overview of the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Experienced in managing Network migration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ponsible for Serious Incident Managemen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02400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9640" y="112536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85F0-DE4F-4930-830F-65802BC0E7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TExtraBold"/>
              </a:rPr>
              <a:t>Prior to “On the Night” Migration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21CN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existing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hange Control/Planned Works Proces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Have been enacted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Identification of Critical Number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al Time Contingency Plann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 plac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3072-6976-4AED-AA13-E8D0E14A8B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Prior to Go/No GO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nal SIT-Rep from NM teams - 20CN/21CN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Health of the Network/ External Event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ical number activity/Network Monitor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Process in place and operational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Decision to Migrate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0A86-C522-453C-9262-AD29A908DA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 - Progress as at 23rd May 06</a:t>
            </a:r>
            <a:endParaRPr b="0" lang="en-US" sz="3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3640" y="1562040"/>
            <a:ext cx="79408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Project scope agreed</a:t>
            </a: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Broadband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Voice services including ISDN2/30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Lead Designer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ource agreed - Project team being assembl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Requirements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duct Initiation Document issu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ject plan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Timescales understoo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F6AB-C3EA-4B6E-8D31-01A9F9BFC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198144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76520"/>
            <a:ext cx="14479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20968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riteria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02920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Measure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952880"/>
            <a:ext cx="1752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209680"/>
            <a:ext cx="16761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666880" y="2742840"/>
            <a:ext cx="1676520" cy="2133720"/>
          </a:xfrm>
          <a:prstGeom prst="can">
            <a:avLst>
              <a:gd name="adj" fmla="val 22467"/>
            </a:avLst>
          </a:prstGeom>
          <a:solidFill>
            <a:srgbClr val="ff99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Fallback 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52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Out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1143000" cy="486000"/>
          </a:xfrm>
          <a:prstGeom prst="rightArrow">
            <a:avLst>
              <a:gd name="adj1" fmla="val 56861"/>
              <a:gd name="adj2" fmla="val 149604"/>
            </a:avLst>
          </a:pr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 rot="16200000">
            <a:off x="137160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40256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 rot="16200000">
            <a:off x="632448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635544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676520"/>
            <a:ext cx="914400" cy="3886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6EF9-1529-4217-B023-997B4BACB9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5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eria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Strong linkage to Go/No-Go criteria i.e. continued monitoring through transfer period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ssessment being made of current incident criteria for 20CN and 21CN Trials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riteria and thresholds are likely to be different during the transfer period - need to conduct gap analysi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Must accommodate ‘Graceful’ Fallback and Emergency Fallback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put from requirements stack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9ED8-6E86-4E1B-88D5-BE1E441790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7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Measures and monitoring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key measures?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thresholds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o produces the data and with what frequency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overnance &amp; Decision Making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Key players that make the fallback decision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vailability of the key players e.g. 24 x 7 rota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hannels and protocols for making the decision e.g. conference bridge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80D4-C64C-4D18-9DF5-E75AE31290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ommunications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 Internal and External Communications - need to establish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mat/content of the communications that are sent out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list of recipients (distribution list)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requency and means of distribution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reference points for further information</a:t>
            </a:r>
            <a:r>
              <a:rPr b="0" lang="en-US" sz="2000" spc="-1" strike="noStrike">
                <a:solidFill>
                  <a:srgbClr val="003e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round rules: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Use Business as usual processes either in part or in whole as much as possible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Explore systems opportunities to manage data through MCC especially in the area of measures and thresholds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2732-8B21-432C-906D-C83EA97AD7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cp:lastPrinted>2006-05-19T07:55:06Z</cp:lastPrinted>
  <dcterms:modified xsi:type="dcterms:W3CDTF">2006-05-23T12:29:12Z</dcterms:modified>
  <cp:revision>117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4965384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igration Command &amp; Control (Go/No Go &amp; fallback Criteria Workshop)</vt:lpwstr>
  </property>
</Properties>
</file>